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BB0-46BC-40BD-9ED6-75F8444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86B-EF7C-43D8-A5B8-9C38C72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C51-A1A8-4F1C-94B5-1BF64E61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8C3-C6B6-444B-B952-F85061CD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6597-B01A-43BA-AF1F-A8F8A597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4FC8-FD17-4E4F-AB79-E4DABACD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C1A3-2A0D-4EA7-A039-B6413CBB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1646-2BE2-4E30-B012-1315356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7F2F-8797-48FF-8FFF-6AB55D94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2715-682F-4790-86E1-5B0948C8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F3D9-D6CD-483D-8D1C-6CE899D1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475-55DC-437B-909D-EDF2A81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ED2D-25E7-4245-99D3-547AF5C5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F678-84B5-482A-9C20-FBF9343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01C7-3F38-4A8D-B5AD-CFF4976D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E11-EA02-4983-B7CC-2D824E69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13DD-32AB-474A-9DAD-D7818A5F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820-63EC-4B9E-9B17-67EB2D4C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601-B84E-4D8F-91B5-2F78B1F7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DD7-318F-4EB8-A195-6A80C39C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702-73BF-4E02-9455-660557C7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C47-6797-422B-B04F-1169698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045-EC83-4758-B736-2ACB3CB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A6B-96DA-4048-93AF-FACD380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1EF4-5D37-44D6-81AC-9F6EEA933B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455-6DF9-41AE-97D3-C74980D148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Esteem…What is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Esteem…Wha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it made of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Self-este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ret to improving Self-este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80880" y="2362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228600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Become physically 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Learn new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mprove your personal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Dress wel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s 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esteem comes from every experience of your li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you view yourself affects everything you do in li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elf-esteem gives you a GOOD feeling about your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self-esteem distorts your view of your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esteem can be im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nal Thou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re a unique individual. No one else is like you in the whole world. This makes you special alread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time in this world is limited. Make it happen for you so you leave your mark in histor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-Esteem…What is i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esteem refers to the way we see and think about oursel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Program Files\Microsoft Office\Clipart\smbusbas\bd10568_.wmf"/>
          <p:cNvPicPr/>
          <p:nvPr/>
        </p:nvPicPr>
        <p:blipFill>
          <a:blip r:embed="rId1"/>
          <a:stretch/>
        </p:blipFill>
        <p:spPr>
          <a:xfrm>
            <a:off x="4824360" y="2133720"/>
            <a:ext cx="31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-Esteem…What</a:t>
            </a: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 it made of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r self-esteem is made up of all the experiences and interpersonal relationships you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 had in your life. Everyone you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 ever met has added to or taken away from how you see yourself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4495680" y="2317680"/>
            <a:ext cx="3810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ffects of High Self-Estee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ith high self-esteem possess the following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like to meet new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d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worry about how others will judge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have the courage to express themsel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ir lives are enriched with each new encou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2514600"/>
            <a:ext cx="7162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nicer to be a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ir ideas are met with interest because others want to hear what they have to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magnets to positive opportunit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5715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ith high self-esteem have an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think I ca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itu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ffects of Low Self-Estee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ith low self-esteem possess the following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d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believe in themsel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see themselves failing before they beg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have a hard time forgiving their mistakes and make themselves pay the price for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believe they can never be as good as they should be or as ot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533520" y="2362320"/>
            <a:ext cx="75438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afraid to show their creativity because they will be ridicu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dissatisfied with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spend most of their time 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complain and critic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worry about everything and do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6095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ople with low self-esteem have an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 can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 do it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t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2 Steps to High Self-Este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Forgive yourself for past mistak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Focus on your positive attrib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Follow the example of successful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Become a self talk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457200" y="236232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Exhibit a good at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Get plenty of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Make your work skills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Practice your ta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20:52Z</dcterms:created>
  <dc:creator>LRomero</dc:creator>
  <dc:description/>
  <dc:language>en-US</dc:language>
  <cp:lastModifiedBy>Staff</cp:lastModifiedBy>
  <dcterms:modified xsi:type="dcterms:W3CDTF">2017-06-30T18:58:33Z</dcterms:modified>
  <cp:revision>29</cp:revision>
  <dc:subject/>
  <dc:title>SELF-ESTEEM</dc:title>
</cp:coreProperties>
</file>